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9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20A-C3F6-47B4-9048-16C7AA9F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105-A97A-475B-A1E7-D47BC47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572-95ED-44DC-82B5-2110213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C85-8DE9-42CE-A8C6-6D068D2C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7C5-19A7-4B4C-B30F-BCBC83C8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CFB-0F47-4ED6-A10D-14966360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CBC-FC69-4107-B024-148665D4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B6E-3EBE-4C36-9186-9F5791C9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DBC-CB41-47FE-A583-9307466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3F9-8CA5-49E2-8CEE-D6A74AD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F74-86A4-43B7-9B8A-4E93AC8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800-9AB0-4535-929B-7D6046A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3CB-891F-4F37-9BEB-27AE31B34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МОУ Андреевская Средняя Общеобразовате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147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Исследовательская работа на тему «Системы счисл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9280" y="4076280"/>
            <a:ext cx="7704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менева Анастасия ученица 11 класса «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Учитель математика Кунавина Вер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594936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008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анной системе счисления используется 16 цифр. Однако в десятичной системе использовали только 10 цифр. Поэтому возникла необходимость ввести новые цифры. В качестве этих цифр были выбраны латинские буквы A, B, C, D, E, F. То есть в 16-ричной системе счисления используют числа 0, 1, 2, 3, 4, 5, 6, 7, 8, 9, A, B, C, D, E, F. При этом A = 10, B = 11, C = 12, D = 13, E = 14, F = 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1125360"/>
            <a:ext cx="5832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1773360"/>
            <a:ext cx="8640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перево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12526" b="0"/>
          <a:stretch/>
        </p:blipFill>
        <p:spPr>
          <a:xfrm rot="20601000">
            <a:off x="1116000" y="4076280"/>
            <a:ext cx="2016000" cy="24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791400">
            <a:off x="5724360" y="3715920"/>
            <a:ext cx="2232360" cy="288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20395800">
            <a:off x="1042560" y="333000"/>
            <a:ext cx="1604880" cy="1357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10742" b="0"/>
          <a:stretch/>
        </p:blipFill>
        <p:spPr>
          <a:xfrm rot="1677600">
            <a:off x="6453360" y="396720"/>
            <a:ext cx="19443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еревод числа 19 в двоичную систему счис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960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24000" y="591732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19 = 10011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013360"/>
            <a:ext cx="309564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5013360"/>
            <a:ext cx="295272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5013360"/>
            <a:ext cx="25923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941720"/>
            <a:ext cx="2232000" cy="115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4797360"/>
            <a:ext cx="187164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800"/>
                            </p:stCondLst>
                            <p:childTnLst>
                              <p:par>
                                <p:cTn id="4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800"/>
                            </p:stCondLst>
                            <p:childTnLst>
                              <p:par>
                                <p:cTn id="4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800"/>
                            </p:stCondLst>
                            <p:childTnLst>
                              <p:par>
                                <p:cTn id="4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800"/>
                            </p:stCondLst>
                            <p:childTnLst>
                              <p:par>
                                <p:cTn id="5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800"/>
                            </p:stCondLst>
                            <p:childTnLst>
                              <p:par>
                                <p:cTn id="5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перевод числа 19 в шестнадцатеричную систему счисления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352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56026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Arial"/>
              </a:rPr>
              <a:t>19 = 13</a:t>
            </a: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16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869000"/>
            <a:ext cx="3024360" cy="936360"/>
          </a:xfrm>
          <a:prstGeom prst="line">
            <a:avLst/>
          </a:prstGeom>
          <a:ln w="57240">
            <a:solidFill>
              <a:srgbClr val="19b95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4869000"/>
            <a:ext cx="2879640" cy="865080"/>
          </a:xfrm>
          <a:prstGeom prst="line">
            <a:avLst/>
          </a:prstGeom>
          <a:ln w="54000">
            <a:solidFill>
              <a:srgbClr val="19b95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еревод числа 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в десятичную систему счис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  1*16 + 3*16 = 16 + 3 = 1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1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428280"/>
            <a:ext cx="9144000" cy="2440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еревод числа 10011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в десятич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истему сч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11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1*2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+ 0*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+ 0*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+ 1*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+ 1*2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16+0+0+2+1 = 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10011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 = 1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5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950"/>
                            </p:stCondLst>
                            <p:childTnLst>
                              <p:par>
                                <p:cTn id="5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750"/>
                            </p:stCondLst>
                            <p:childTnLst>
                              <p:par>
                                <p:cTn id="5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350"/>
                            </p:stCondLst>
                            <p:childTnLst>
                              <p:par>
                                <p:cTn id="5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2100"/>
                            </p:stCondLst>
                            <p:childTnLst>
                              <p:par>
                                <p:cTn id="5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13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перевод из двоичной системы счисления в шестнадцатеричную числа 0,110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704000" cy="220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7040" y="5083920"/>
            <a:ext cx="83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101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= D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. Тогда 0,1101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= 0,D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6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перевод из двоичной системы счисления в шестнадцатеричную числа 0,00101012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7417080" cy="223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32840" y="517032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0010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 = 10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 = 2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16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 и 1010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 = A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16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Тогда  0,0010101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 = 0,2A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650"/>
                            </p:stCondLst>
                            <p:childTnLst>
                              <p:par>
                                <p:cTn id="6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25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7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250"/>
                            </p:stCondLst>
                            <p:childTnLst>
                              <p:par>
                                <p:cTn id="67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7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820000" cy="1733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Rage Italic"/>
              </a:rPr>
              <a:t>перевод из шестнадцатеричной системы счисления в двоичную числа 0,2А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16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 = 0010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 и А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16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= 1010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0,2А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16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 = 0,00101010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тбросим в результате незначащий ноль и получим окончате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ff00ff"/>
                </a:solidFill>
                <a:uFillTx/>
                <a:latin typeface="Arial"/>
              </a:rPr>
              <a:t>0,2А16 = 0,00101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150"/>
                            </p:stCondLst>
                            <p:childTnLst>
                              <p:par>
                                <p:cTn id="6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650"/>
                            </p:stCondLst>
                            <p:childTnLst>
                              <p:par>
                                <p:cTn id="6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650"/>
                            </p:stCondLst>
                            <p:childTnLst>
                              <p:par>
                                <p:cTn id="7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250"/>
                            </p:stCondLst>
                            <p:childTnLst>
                              <p:par>
                                <p:cTn id="709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710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250"/>
                            </p:stCondLst>
                            <p:childTnLst>
                              <p:par>
                                <p:cTn id="71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1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3224160" cy="241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-2570" r="11831" b="0"/>
          <a:stretch/>
        </p:blipFill>
        <p:spPr>
          <a:xfrm rot="9947400">
            <a:off x="736200" y="3060360"/>
            <a:ext cx="2584440" cy="348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11733" b="0"/>
          <a:stretch/>
        </p:blipFill>
        <p:spPr>
          <a:xfrm rot="814800">
            <a:off x="6011640" y="3068280"/>
            <a:ext cx="2447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773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ge Italic"/>
              </a:rPr>
              <a:t>перевод из десятичной системы счисления в шестнадцатеричную числа 19,84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19,847 =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+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0,847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8360" y="408564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9 = 1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9080" y="400464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0,847 = 0,D8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0200" y="531468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0,8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0,D8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8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847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8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3284640"/>
            <a:ext cx="129528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1280" y="3284640"/>
            <a:ext cx="2087640" cy="86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4653000"/>
            <a:ext cx="863640" cy="720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08360" y="4581360"/>
            <a:ext cx="208764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500"/>
                            </p:stCondLst>
                            <p:childTnLst>
                              <p:par>
                                <p:cTn id="7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800"/>
                            </p:stCondLst>
                            <p:childTnLst>
                              <p:par>
                                <p:cTn id="7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400"/>
                            </p:stCondLst>
                            <p:childTnLst>
                              <p:par>
                                <p:cTn id="7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476280"/>
            <a:ext cx="8640720" cy="2305080"/>
          </a:xfrm>
          <a:prstGeom prst="roundRect">
            <a:avLst>
              <a:gd name="adj" fmla="val 16667"/>
            </a:avLst>
          </a:prstGeom>
          <a:solidFill>
            <a:srgbClr val="dd15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овокуп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фровых знаков и правил их запис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яемая для однозначной записи чис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933720"/>
            <a:ext cx="3384360" cy="2924280"/>
          </a:xfrm>
          <a:prstGeom prst="flowChartAlternateProcess">
            <a:avLst/>
          </a:prstGeom>
          <a:solidFill>
            <a:srgbClr val="dd15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позиционно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ая система счис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торой значение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е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яду циф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ающих чис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3933720"/>
            <a:ext cx="3384720" cy="2924280"/>
          </a:xfrm>
          <a:prstGeom prst="flowChartAlternateProcess">
            <a:avLst/>
          </a:prstGeom>
          <a:solidFill>
            <a:srgbClr val="dd15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зи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такая 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исления, в 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цифры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ее положения в 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, изображающих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. е. ве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79280" y="2781360"/>
            <a:ext cx="2374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2781360"/>
            <a:ext cx="266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«Вавилонская» или шестидесятеричная система  счис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Десят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10848"/>
          <a:stretch/>
        </p:blipFill>
        <p:spPr>
          <a:xfrm rot="497400">
            <a:off x="6011640" y="260280"/>
            <a:ext cx="259236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0" r="0" b="10558"/>
          <a:stretch/>
        </p:blipFill>
        <p:spPr>
          <a:xfrm rot="20608200">
            <a:off x="395280" y="404640"/>
            <a:ext cx="2881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50"/>
                            </p:stCondLst>
                            <p:childTnLst>
                              <p:par>
                                <p:cTn id="1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900"/>
                            </p:stCondLst>
                            <p:childTnLst>
                              <p:par>
                                <p:cTn id="1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150"/>
                            </p:stCondLst>
                            <p:childTnLst>
                              <p:par>
                                <p:cTn id="1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600"/>
                            </p:stCondLst>
                            <p:childTnLst>
                              <p:par>
                                <p:cTn id="1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Вавилонская или шестидесятерич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Шестидесятеричная вавилонская система — первая известная нам система счисления, основанная на позиционном принципе. Система вавилонян сыграла большую роль в развитии математики и астрономии, ее следы сохранились до наших дней. Так, мы до сих пор делим час на 60 минут, а минуту на 60 секунд. Точно так же, следуя примеру вавилонян, окружность мы делим на 360 частей (градусов). В ходе своего развития человечество стремилось совершенствовать запись чисел, у разных народов в разное время потреблялись различные системы с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7341E-007 L -2.5E-006 -1.7341E-007 E">
                                      <p:cBhvr>
                                        <p:cTn id="212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15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8150"/>
                            </p:stCondLst>
                            <p:childTnLst>
                              <p:par>
                                <p:cTn id="2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8218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Пришла в Европу из Индии, где она появилась не позднее VI века н.э. В этой системе 10 цифр: 0, 1, 2, 3, 4, 5, 6, 7, 8, 9, но информацию несет не только цифра, но и место, на котором цифра стоит (то есть ее позиция). В десятичной системе счисления особую роль играют число 10 и его степени: 10, 100, 1000 и т.д. Самая правая цифра числа показывает число единиц, вторая справа - число десятков, следующая - число сотен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8075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55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= 5*100 + 5*10 + 5*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476440" y="1514520"/>
            <a:ext cx="4616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89017E-006 L 6.66667E-006 0.22011 E">
                                      <p:cBhvr>
                                        <p:cTn id="25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317 L 0.25399 0.317 E">
                                      <p:cBhvr>
                                        <p:cTn id="26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omic Sans MS"/>
              </a:rPr>
              <a:t>Двоичная система счисления была придумана математиками и философами ещё до появления компьютеров (XVII — XIX вв.). Выдающийся математик Лейбниц говорил: "Вычисление с помощью двоек... является для науки основным и порождает новые открытия... При сведении чисел к простейшим началам, каковы 0 и 1, везде появляется чудесный порядок". Позже двоичная система была забыта, и только в 1936 — 1938 годах американский инженер и математик Клод Шеннон нашёл замечательные применения двоичной системы при конструировании электронных сх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600360" cy="38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352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15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115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115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115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15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115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115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75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-72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ccff"/>
                </a:solidFill>
                <a:latin typeface="Arial"/>
              </a:rPr>
              <a:t>2000</a:t>
            </a: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79892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000:2=1000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0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- остаток),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000:2=500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500:2=250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250:2=125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25:2=62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62:2=31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31:2=15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5:2=7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7:2=3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3:2=1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5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=1111010000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1989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347640" y="1484280"/>
            <a:ext cx="1871640" cy="489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850920" y="1484280"/>
            <a:ext cx="1368360" cy="439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356000" y="1484280"/>
            <a:ext cx="936720" cy="388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787640" y="1484280"/>
            <a:ext cx="647640" cy="338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219640" y="1557000"/>
            <a:ext cx="216000" cy="28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508720" y="1484280"/>
            <a:ext cx="215640" cy="24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24360" y="1413000"/>
            <a:ext cx="432000" cy="20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651640" y="1484280"/>
            <a:ext cx="86508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6000" y="1484280"/>
            <a:ext cx="122400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32360" y="1484280"/>
            <a:ext cx="266400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650"/>
                            </p:stCondLst>
                            <p:childTnLst>
                              <p:par>
                                <p:cTn id="320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650"/>
                            </p:stCondLst>
                            <p:childTnLst>
                              <p:par>
                                <p:cTn id="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В этой системе счисления 8 цифр: 0, 1, 2, 3, 4, 5, 6, 7. Цифра 1, указанная в самом младшем разряде, означает - как и в десятичном числе - просто единиц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987640" cy="2781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12128" b="0"/>
          <a:stretch/>
        </p:blipFill>
        <p:spPr>
          <a:xfrm>
            <a:off x="0" y="0"/>
            <a:ext cx="3348000" cy="292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11096" b="0"/>
          <a:stretch/>
        </p:blipFill>
        <p:spPr>
          <a:xfrm>
            <a:off x="3419640" y="3500280"/>
            <a:ext cx="230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65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1:51Z</dcterms:created>
  <dc:creator>2222</dc:creator>
  <dc:description/>
  <dc:language>en-US</dc:language>
  <cp:lastModifiedBy>2222</cp:lastModifiedBy>
  <dcterms:modified xsi:type="dcterms:W3CDTF">2008-11-23T09:25:46Z</dcterms:modified>
  <cp:revision>11</cp:revision>
  <dc:subject/>
  <dc:title>Слайд 1</dc:title>
</cp:coreProperties>
</file>